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3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  <p:custShow name="ELI Sect 2" id="2">
      <p:sldLst>
        <p:sld r:id="rId3"/>
      </p:sldLst>
    </p:custShow>
    <p:custShow name="Bellringers" id="3">
      <p:sldLst>
        <p:sld r:id="rId4"/>
      </p:sldLst>
    </p:custShow>
    <p:custShow name="Chapter menu" id="4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te Tect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5040" y="6132600"/>
            <a:ext cx="87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775040" y="6157800"/>
            <a:ext cx="87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826240" y="618156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>
            <a:hlinkClick r:id="" action="ppaction://hlinkshowjump?jump=previousslide"/>
          </p:cNvPr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>
            <a:hlinkClick r:id="" action="ppaction://hlinkshowjump?jump=nextslide"/>
          </p:cNvPr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>
            <a:hlinkClick r:id="" action="ppaction://hlinkshowjump?jump=firstslide"/>
          </p:cNvPr>
          <p:cNvSpPr/>
          <p:nvPr/>
        </p:nvSpPr>
        <p:spPr>
          <a:xfrm>
            <a:off x="6781680" y="60958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>
            <a:hlinkClick r:id="" action="ppaction://hlinkshowjump?jump=endshow"/>
          </p:cNvPr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720360"/>
            <a:ext cx="8394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ental Drif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760" y="1498320"/>
            <a:ext cx="830736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ener’s Hypo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-Ocean Ri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-Floor Spr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omagnet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ener Redee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ental Drift (Pangae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a-Floor Spread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c00"/>
                </a:solidFill>
                <a:latin typeface="Arial"/>
              </a:rPr>
              <a:t>Sea-floor spread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by which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c00"/>
                </a:solidFill>
                <a:latin typeface="Arial"/>
              </a:rPr>
              <a:t>Paleomagnetis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a-Floor Spread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late 1950’s geologist Harry Hess proposed that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ley at the center of the mid-ocean ridge was a cra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if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ocean floor moves away from the ridge, molten rock, or magma, rises to fill the cra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ss suggested that if the sea floor is moving, the continents might be moving al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uggested this might be the mechanism that Wegener was searching f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a-Floor Spread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ocean floor spreads apart, magma rises to fill the rift and then cools to form new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1006560" y="2590920"/>
            <a:ext cx="6689520" cy="33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a-Floor Spread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580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a-Floor Spread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486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aleomagnetis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c00"/>
                </a:solidFill>
                <a:latin typeface="Arial"/>
              </a:rPr>
              <a:t>Paleomagnetis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y of the alignment of magnetic minerals in rock, specifically as it relates to the reversal of Earth’s magnetic poles; also the magnetic properties that rock acquires during 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magma solidifies to form rock, iron-rich minerals in the magma align with Earth’s magnetic field. When the rock hardens, the magnetic orientation of the minerals becomes perman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aleomagnetism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185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c00"/>
                </a:solidFill>
                <a:latin typeface="Arial"/>
              </a:rPr>
              <a:t>Magnetic Revers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have discovered rocks whose magnetic                 orientations point opposite of Earth’s current magnetic f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 with magnetic fields that point north (normal    polarity) are all classified in the same time peri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 with magnetic fields that point south (reversed polarity) also all fell into specific time peri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aleomagnetism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4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c00"/>
                </a:solidFill>
                <a:latin typeface="Arial"/>
              </a:rPr>
              <a:t>Magnetic Reversa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cientists placed these periods of normal and reversed polarity in chronological order, they discovered a pattern of alternating normal and reversed polarity in the r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used this pattern to create the </a:t>
            </a:r>
            <a:r>
              <a:rPr b="1" lang="en-US" sz="2400" spc="-1" strike="noStrike">
                <a:solidFill>
                  <a:srgbClr val="facc00"/>
                </a:solidFill>
                <a:latin typeface="Arial"/>
              </a:rPr>
              <a:t>geomagnetic reversal time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aleomagnetism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c00"/>
                </a:solidFill>
                <a:latin typeface="Arial"/>
              </a:rPr>
              <a:t>Magnetic Sym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discover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striped magnetic pattern on the ocean floor on each side of a mid-ocean rid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ttern on one side of the ridge is a mirror image of the pattern on the other 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rawn on a map, these patterns match the geomagnetic reversal time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aleomagnetism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44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c00"/>
                </a:solidFill>
                <a:latin typeface="Arial"/>
              </a:rPr>
              <a:t>Magnetic Sym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ttern of magnetic symmetry and age of rock formation indicate that new rock forms at the center of a ridge and then move away from the center in opposite dir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4037040" y="1600200"/>
            <a:ext cx="413712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ener’s hypothesis of continental dri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of sea-floor sprea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paleomagnetism provides support for the idea of sea-floor sprea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ea-floor  spreading provides a mechanism for continental dri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gener Redeem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al patterns on the sea floor could also be found on land.  The reversals in land rocks also matched the geomagnetic reversal time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 same pattern appears in rocks of the same ages on both land and the sea floor, scientists agreed that the  magnetic patterns showed change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dea of sea-floor spreading provides a way for the continents to move over the Earth’s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-floor spreading was the mechanism that verified Wegener’s hypothesis of continental dri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gener’s Hypothesi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inental drif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esis of continental drift was first proposed by German scientist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lfred Wegen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ener used several different types of evidence to support his hypo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415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gener’s Hypothesi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4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egener’s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ssil Eviden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ssils of the same plants and animals could be found in areas of continents that had once been conn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vidence from Rock Formatio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ges and types of rocks in the coastal regions of widely separated areas matched clos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matic Eviden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s in climatic patterns suggested the continents had not always been located where they are n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415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gener’s Hypothesi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rock formations and fossil evidence supported Wegener’s hypo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1685880" y="2463840"/>
            <a:ext cx="607068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415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gener’s Hypothesi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c00"/>
                </a:solidFill>
                <a:latin typeface="Arial"/>
              </a:rPr>
              <a:t>Missing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ener proposed that the continents moved by plowing through the rock of the ocean flo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ener’s ideas were strongly oppos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ener’s mechanism was disproved by geologic evi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ener spent the rest of his life searching for a mechanism for the movement of conti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d-Ocean Ridg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d-ocean ri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s as magma rises from the asthenosphere, and that creates new oceanic lithosphere (sea floor) as tectonic plates move a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d-Ocean Ridg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4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47, a group of scientists set out to map the Mid-Atlantic Ridge. While studying the Mid-Atlantic Ridge, scientists noticed two surprising tre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457200"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diment that covers the sea floor is thinner closer to a ridge than it is farther from the 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457200"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ean floor is very young. Rocks on land are as old as 3.8 billion years.  None of the oceanic rocks are more than 190 million years 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d-Ocean Ridg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19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 closer to a mid-ocean ridge are younger than rocks farther from the ridge. Rocks closer to the ridge are covered with less sediment than rocks farther from the rid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2049480" y="3168720"/>
            <a:ext cx="5056200" cy="26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1-06T23:39:24Z</dcterms:modified>
  <cp:revision>693</cp:revision>
  <dc:subject/>
  <dc:title>No Slide Title</dc:title>
</cp:coreProperties>
</file>